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009-30D5-4BE1-90B7-E1878218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EB4-FB4C-4621-BA24-58D08A92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4CB-B5A4-43DD-9E50-0FA2703C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33E-47DC-4C14-8331-59F33A7F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AFE-27CF-43AD-9009-41D3C89B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999-8CCB-47E3-B6BB-9348825A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A04-6DF8-4C2B-B0AA-A0214D65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1AD-CFC8-4BD0-9062-24DD1369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5D7-40DC-433A-B928-B2F7F476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C0D-60EC-4321-85DF-662DE81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3E6-13D7-4865-8D95-962704D2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464-2219-4B12-9F61-C3E3621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6AC8-78B0-49C0-A0FC-0D4E088DC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minster Theater Arts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 Season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nsas City, Missou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ittl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TAC Detai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ed in 19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ed by John C. and Harriet S. Bru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 years of Broadway experience between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uin The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oor main theater that seats 2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le Leaf The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c open-air performance theater that seats 1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1 Sea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ing Mus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g and I” (March &amp; Apr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S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Pacific” (Ju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t Your Wagon” (Augu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ta” (Septem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Mus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maker” (Novem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TAC in the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ed over 30 non-WTAC events at the WTAC facility 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souri State teachers co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nsas City Days (local festiv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ughters of America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itment to Excell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3:43:08Z</dcterms:created>
  <dc:creator>David Beskeen</dc:creator>
  <dc:description/>
  <dc:language>en-US</dc:language>
  <cp:lastModifiedBy>Phil Schneider</cp:lastModifiedBy>
  <dcterms:modified xsi:type="dcterms:W3CDTF">2012-05-09T09:45:15Z</dcterms:modified>
  <cp:revision>8</cp:revision>
  <dc:subject/>
  <dc:title>Westminster Theater Arts Center</dc:title>
</cp:coreProperties>
</file>